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210882"/>
        <c:axId val="87812370"/>
      </c:barChart>
      <c:catAx>
        <c:axId val="542108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12370"/>
        <c:crosses val="autoZero"/>
        <c:auto val="1"/>
        <c:lblAlgn val="ctr"/>
        <c:lblOffset val="100"/>
        <c:noMultiLvlLbl val="0"/>
      </c:catAx>
      <c:valAx>
        <c:axId val="878123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108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9EBB-FA71-4511-9B29-FE59D223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972A-4F21-46AA-8D29-2F48E33F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2E38-C099-4AE4-B86B-0194FB469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6475-BE46-4CFA-B3F3-B6E97D9E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79E8-E453-4C57-8FD8-C6B701F5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7534-6F4E-4108-BE0A-CB2557ED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3573-FA6A-48DC-BBC3-457EA7EF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CA21-ED88-4BCF-A012-0F8D6669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E497-5FD7-437A-BD70-BACE78F9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398E-1EF7-4B7A-8950-ABFEC48B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0A27-2796-4F41-81B9-2A129BD8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9F91-5DC9-41E6-B4EA-B9A0645A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F448F-1F3B-4BAA-BE45-F9C7E4C243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