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0750"/>
        <c:axId val="52601701"/>
      </c:barChart>
      <c:catAx>
        <c:axId val="240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601701"/>
        <c:crosses val="autoZero"/>
        <c:auto val="1"/>
        <c:lblAlgn val="ctr"/>
        <c:lblOffset val="100"/>
        <c:noMultiLvlLbl val="0"/>
      </c:catAx>
      <c:valAx>
        <c:axId val="526017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50AE-1BC1-4E1D-83BA-C77222218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286-E67E-4D22-9B41-FCB16B28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3279-DBD4-444F-A260-FCD14DA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9299-4313-457B-871B-2B5439564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E1FC-3E4D-4E3F-9667-6A581F741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137-F243-46B2-8050-C58B08C19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91E8-BD84-421A-BE22-792396006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F3D-6A91-48EA-BAC5-CCB850C5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1EBC-4F57-484B-92F4-BD6A20B8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59B-4907-4CE1-93BE-37CC5727D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B0DF-B5E7-4CD8-B9C3-2FCCD08A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F1CC-9EAB-49BB-8D66-E4C472934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9AF626-D668-44F7-9A94-FEEE21A86DA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