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533220"/>
        <c:axId val="58328980"/>
      </c:barChart>
      <c:catAx>
        <c:axId val="325332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28980"/>
        <c:crosses val="autoZero"/>
        <c:auto val="1"/>
        <c:lblAlgn val="ctr"/>
        <c:lblOffset val="100"/>
        <c:noMultiLvlLbl val="0"/>
      </c:catAx>
      <c:valAx>
        <c:axId val="583289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332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6FD1-235B-458E-9C4A-4ACA2D99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A3B7-96CD-40EA-89BB-F443DF57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CA5-31E4-4D76-A5B7-9B792EA1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251D-543F-4ABC-A1BB-A4E411F0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014-F5ED-40E6-9DD2-FF3B3BF0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2AFC-8825-4021-A68C-A0552085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9FE-3C23-45E7-89EE-E9BDB675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C375-14A5-426D-B5DF-9E3D209B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ADD6-D02F-4C3B-A5C1-8B72A233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628C-8167-4D65-B819-B9AE22B4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B86-F9E3-4C86-B0C6-1A9F8A79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8EA-43E0-434E-A473-239B497C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7FF2B-042D-405D-BFBE-FF994ECA2A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