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76464"/>
        <c:axId val="55216123"/>
      </c:barChart>
      <c:catAx>
        <c:axId val="60976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16123"/>
        <c:crosses val="autoZero"/>
        <c:auto val="1"/>
        <c:lblAlgn val="ctr"/>
        <c:lblOffset val="100"/>
        <c:noMultiLvlLbl val="0"/>
      </c:catAx>
      <c:valAx>
        <c:axId val="55216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76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CA7D-D42B-44AA-BEBF-A0898426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FCA3-2883-49E4-9093-2661E6C6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64A-0E99-40A6-B901-4545AE756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9B1-6523-4755-82B5-8994B17D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F68-62D5-454B-86C5-4DF5F9B5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ED6-69EE-44FA-844C-91358CEA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60FF-6380-4440-9C50-D0BCD4C9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C83-3728-47B5-B509-6EAFDE11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DEC9-26EA-40B4-B81B-2197FE84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24F0-2729-4532-83C6-911B32F1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D78C-57AC-431A-9B19-204CB35D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A0C-C12B-45E5-883C-7F53DC5C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D360A-E3B7-451B-A88D-80552B865D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